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A78A-749A-4849-A3BE-F77768D89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7513-C313-4EF1-8AD8-F876A8FA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BA878B-BFF8-4F20-94A3-D772ED13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8AE4FB-F92E-4FB5-9FDA-9E747411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D2D7DD-6277-4BAA-9FFD-0B61F975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7DF8F6-32BA-422E-92E3-0FCA9B4C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57A3D-8A0F-4C59-8788-1F329B97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F6FC4-441C-4D41-8F47-42A67B8F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323905-5D98-4EF2-A6C5-82BB1ED9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BC2EEB-F12A-4C1F-BA80-673704FEF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BAC264-6B15-4560-A38C-22C0A884E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85A9C0-F106-4AF7-8359-22608BD19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38A6-EAF6-4F68-81AB-DCEDB9F38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00B4CC-C836-406B-A0EB-449860D9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C2CFFB-21D3-4133-8DA5-2F3CBAF8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35577E-D847-440B-A0DB-D16A4DB6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4EF0C4-851F-4EC3-A22D-CF2D7426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CF040C-A2DE-4691-8C25-566FD081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A8CF54-862E-4891-B186-D47AB19E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0E4365-E375-4DA7-B25B-0C3AAE6A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3AC62E-789E-4850-81AB-4264D860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5E0050-C619-41B4-BD7E-129A9B04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B3445-3144-4DF9-B83F-6CDC702F8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59C5-F4BA-42E0-A640-0A27735D8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47FA70-1BAA-4A3F-A914-2A0EFBAE9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E4C44-2EA5-4F50-9B01-39F835440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F35EA-5A4D-4695-8260-F3CFA088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771CB-89F2-43C4-B9C8-5C21C63D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E570C-12FB-4808-89A2-9A0C9B05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134A96-2656-45B2-B52B-BC6DD745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086B39-90B3-4EF3-BFD0-E8780AF0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11514D-E741-4914-802B-BF225FFB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25B33-A197-4218-BC3F-DBA77635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1A20F-5CBA-4FAE-873D-5E4126C1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40418-9E34-4D36-A539-1A6E7B9A4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E4DCF2-B7B6-4404-991F-073C4674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5ABC4E-31FA-4225-BD9B-154A69764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0AC0C-C3B0-466F-B3E0-C8860C0B4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FE0357-AD5E-4DBA-93AC-1CAB981A8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02FD3F-56D2-4B5D-986E-99EB6B85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EE8746-02E4-46FE-AB35-0972CFA3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F3E934-2938-42A4-9E17-D0B3F277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49494E-93F6-4D0F-8EF6-B922632F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A59F25-EA7D-4C6C-9284-C31CD629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C6E0E3-B891-4588-B0BD-C44B10C8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6379-6692-4BE7-ADE3-F6CE9E0C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9299B0-786E-4781-ABDA-ED7D7C76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CB1EEE-E529-4C3B-86FB-7DE7E63B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8BF34D-1DC3-4B1B-BF51-D084299A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69FC24-84C9-4457-8254-A30AC0336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78B3E0-99C9-4AB3-B704-55393CCDE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4F24B8-7253-4E41-AA4B-FEE12F61B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479880-EA7F-4164-8912-D5EEF70E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93A0B8-B71B-4670-80BE-3E4A40B1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E4FFF0-6625-4468-B615-A4E34F24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5AC490-B5D8-4D52-8FC6-96901694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8E45-45B4-4D70-A206-513D0977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1DD614-23D2-424E-8E1D-39F0C843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0DD069-3605-45D7-9E0A-223E9786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FA7B2A-6306-4800-9928-5DE74C75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32D0A4-3AFA-490E-85F5-B5021022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907F4C-4768-4C03-8FA5-436F261E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ABDC5A-7BE6-42B5-8D0F-4FFD57096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B9B357-A223-4ABD-92B7-AB026B813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C84C37-5CB8-4D02-9D07-0CF55AA18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AB37ED-E713-4185-9C35-351BB252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9D65A7-0437-4BA6-89C3-8E391803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B42D-843A-49D7-9475-A88C8292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3B5CFC-2E95-4CE7-ACAB-1195DC29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4E82A1-9352-4558-9A43-50829FB2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A5F2F7-11CA-490F-87CC-DA406D71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38C79F-525C-4805-B0BD-B61C3EA9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269E07-561C-4552-BD78-73C9A079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AB1D4A-BC4F-4DF1-880F-BCE610B2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FB058E-1365-4676-880F-A0C36E88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12509C-FB44-4164-BABE-72CE8E0AF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6F0B9A-21A9-458D-9525-439E685FB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8E8743-28D8-4D09-B465-103CAD09C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F4EB-8D36-4637-BB26-D8E7DF3F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0F075B-3C2A-4D1F-844D-62F835B8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258CE1-B8DB-4057-922B-7CA9730E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9DAB02-FA37-4B99-ABF7-C097B332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52E5F9-BDD2-4A62-9EA8-3AC19CB8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327514-2765-4610-801B-76B39F64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E26D0D-2F7B-41C7-BA3D-2B9CC38C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3564C5-60AB-48BD-9581-CC483278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8649F9-4464-4743-88C4-6D7C6EA0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EFB496-483D-4A79-A93D-E220D4D9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FFC5CB-20EE-462C-8A07-D90D03497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43E3-59D9-4C85-9F56-9B9262EE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73859E-4F94-4786-B03E-4F1D6E10A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75EE5E-7601-45EF-8257-03500E793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E9900B-9EA2-465F-A5CC-8AD4E79D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A2CD38-6D04-4907-9FD7-BAE5E96F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BEF514-952F-4A77-BE49-EB598442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682350-9B78-482C-BF26-1312FFD6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2948A3-63A5-4542-B29C-88951092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E79D71-F130-4CF9-B238-89D50C4C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8B3E3F-EBCF-4267-9816-AE88E901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8E0422-79C5-4174-B606-B4790B38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0E9C-ED94-40AE-8E22-58C0BDC9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E3B6D7-C27A-43F6-BF5D-29AA8085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5C0C6C-7D79-49DA-83E6-31684E03F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E786CB-72C7-45A5-BD14-C0EBA57B3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55E136-8063-4184-B42C-9D02AE177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5D29DF-8A78-4B0B-A9FC-837AB000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A027DE-E77F-4FB0-92CF-5FB9FB9E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4ED0CA-FA07-4AAD-B6E2-A02D2E23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B6758C-4A13-4F86-AE60-11C4B3CC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AAB929-3362-4134-B87A-86E8A36D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6DD529-C33A-49AF-B78B-37C12262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99D8-0133-4241-B6CC-FEECBB76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CBF9-23F5-4DB5-BB78-7BD432D6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AB9B2B-B3AC-4171-9B65-9C1198CF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F9B47F-315D-494A-BD32-98A64265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0522B3-90E2-4668-9DD8-C6C7CB3B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CC03D3-988A-4C01-88DE-4312F1A4C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DE3BF9-3312-4725-B8FC-850B9A91D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21FD76-705E-4872-9BDD-8E3D8902E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320B53-C72F-4F2D-8256-C5AE7CE1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D4B054-7803-4A0C-AAE0-823F510D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DD7908-D2CA-4DE7-9296-726DE61C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B32174-D248-4AD9-99C1-E4A48318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DC4B-885E-44B9-A300-0E74E57A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3C955B-90C1-4202-BE9E-4CBFBFC8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CA602F-0C12-4E1D-8927-909B68EF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BF8A32-3378-4046-BDCD-EB16F79F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319C41-2675-4CCF-8394-ADB97E51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1F7591-4C0E-4BC3-BBF1-76634B59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0292DA-5633-4C29-AE06-C431B07E2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8094E1-4FF8-4F8B-AF8B-DE9F6E9F2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A1064D-B109-4043-9DFC-053B8BD2A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7EE96E-F1E6-4B83-9A8F-B7D5BADC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3FDDF8-9C65-4F06-BBBF-68BA3063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F9740-6D41-4DC4-BED3-F8556E54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89444E-9BC8-42EB-8063-2F3BE75C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A40832-80F6-43BA-B1C8-D7F93A64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D9D9CF-5E1F-4B5E-87B4-9CCC4F42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81074F-89B9-4F0A-B474-19403466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C4EAB9-F6A8-4F46-9B4B-C87BE9BE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C6DFF2-C21D-4D75-978E-9FB8666B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A67800-D35C-42D1-A06F-CC2E4A50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C918B0-CF49-4694-B1A5-1ACF0F6CF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DB03CF-C873-4133-8DD9-64B4F3641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DBD5AF-D3EA-4548-B32E-D994EF052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1A281-DA6E-4D59-A741-EFED26A5C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044AA1-A71C-4FE9-8AF9-14245893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204F0D-1973-41AB-9D71-BA4059BE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92ECE7-D841-4596-883C-F3C32F9C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A65FCD-67BF-4636-9265-14D73E64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22A710-67A0-43FF-850D-93C3AB0E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56038F-2D21-4AEA-8204-5F70B315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FE6F11-D50F-46ED-B013-5EAC5939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53E18F-D40E-4401-B434-9A7E5FCB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16D9E8-90DB-449E-B3E9-665FD9FD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945DA7-E37D-4E10-B454-4EE2F4056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F45E-5E34-4A0D-8C69-24C1C55D9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5F0560-81F1-475B-9DEE-00A2F0979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84558A-BBE9-4634-B28E-1AC5D6EEE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0439FE-9822-4E1F-979C-A283C3DF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EB4B86-03A4-45D4-BC78-32040D53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F1CCE1-5D86-489C-88E7-43537C24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67F117-ECD6-4854-AF58-E8CB9251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CE3112-1B96-49BB-964C-C8A43B7A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37C241-BFF5-4B0C-ADDB-FB682315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4CB11B-2F72-4A32-AD9E-ADB40281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8584D4-EE20-494B-9BFB-1F4BC063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34469-DCE8-4716-9527-5A3E501DB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EA4325-FB88-4749-9C34-2DE3FCEB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71197A-05E5-4CA4-85AC-2D76E4E9C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27D287-D48E-4C6A-8EC4-78BEB819D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0FC8E-402D-4CAA-943C-8041AF2B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9D746-2E38-4FA0-BA0C-39308A88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6E2BE-3927-439E-A9E2-93629205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31890-5F51-4BC0-A0E3-53874F4A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9C9C-A1D0-4C7E-9C66-4567F807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D7279-7718-413A-964E-2E6D9619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E4F10-0D7D-45E0-8C35-80EFB603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A8314-672D-4D78-B1A9-50B321E4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94F38-D7DD-47F7-9F9E-07D67049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5ED08-2660-4D90-B482-3C64DA68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7EDCF-05B6-4D3E-9A31-5C3C7ED09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93342-0EA8-4B9E-853E-4EE2597CA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A3C21-B7E1-4C9D-B315-C27D1CD92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21D9A-EA77-4797-9769-5E2D6280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5FDFA-F38E-4B60-9CFB-F8A7F6A8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86BD-EAB2-4B43-AB4C-5BFBDF44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E5EBD-F90A-43FD-879C-11EA5797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675C2-6677-4A91-BAF7-773F2ECC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DBB7A-19FE-46A7-9800-479F318A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6288C-1A7A-4F04-9DEE-36FADFBD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CB1FF-FF47-48D8-9328-C777D475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DF551-838C-48CE-B8E6-8780321E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3FA1C-40E7-45B0-9923-53795716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AD74D-07B9-49F0-9947-A6BD33F16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99B05-2414-4CD3-9349-09EFD83B0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316F5-675F-4355-9FD6-B61482538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50C9-3B25-4AEC-8E0F-EE5F0906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D7733-EF39-4AC4-BEE7-01C56BE1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F823E-CBD7-4DA4-B00F-49FD0213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0755B-8A39-4E7A-B134-AE8452E5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F15AF-08AE-4F13-81B9-D0C55C42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66455-A0CA-4F1E-BA0B-4F364D24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C83C3-C8D3-4E32-B940-97BFAE10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FF1B6-BA09-4C32-A5E9-1AEBEB87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A2CEE-6793-4DF1-8C85-5F3032C5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8833E-BDBB-4414-B62C-0303E43E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436E7-CAD4-4C07-8AB7-6EFE31950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30E9-3812-40C3-89D5-E0BAA24B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5E7B9-8AB3-495E-A8CE-98BF36D46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73E50-D10E-43FB-9F4F-39C895040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1DCC9-574B-41FE-ADD4-35C146E4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1F303-33A5-4830-8FCB-7C0F10A4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7C4DA-F4AD-4775-AFA6-A292774D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11212-9350-4676-9AD8-52CB01D8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BA1BF-C1B5-4E6D-B002-BEA35DC7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BE8BD-5398-4966-B7AF-8DA8BB35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7CE26-4C6F-457E-A7A4-C5CD9EA5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4862E-7BBA-4670-923D-24B2AD03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607B-C2B3-4093-9DDC-32C9F65C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067E6-33B6-4B82-BE65-5B09D946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127EC-0EA0-45BC-89D1-FD02E164C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6793E-4BEC-4D24-AA1F-F3A3188BD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CCEC7-0DB3-4B46-8769-01FF54FB8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522DA-F5F7-43D1-A1E3-ACB66AAC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B1B82-9872-4B91-864B-C79DE967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58428-DCB7-4148-94E4-F77B69A2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86D89-D4BA-4AB0-978A-730CFF0E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77326-AB59-47DD-A06D-C72E32CA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4223D-55EC-4E5A-B1C2-18E0E5B7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FAB2-C513-4DB6-871C-48258D18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4F2EF-827C-49BB-8E06-F6253F1B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B05BE-A834-483F-8F6A-B6B755D4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7E74F-FE84-41BF-8D5F-D10B684A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A7B16-395F-4AD6-A347-E78ACD387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6ACAF-968B-4E8B-BD7F-781D1E417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244DA-E395-499E-BB7B-936E7B876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1B995-93F1-4CB2-B9EE-D4F7EA83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83C8A-A5B5-4D27-B32E-6F5847F1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25232-4D21-4004-803C-4CB8A4A7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8E970-1A3E-43B0-B2FE-A1931EDF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53E2-5A5C-426D-9D1B-3E4CDC0D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FC0EF-CB59-4755-AA67-79606A26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C61F1-6913-492F-967B-98CF7009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A4023-24EE-417E-9496-D9ECE789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BC4C1-BB99-469C-A52A-DE6E49A8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8384D-96E5-4DC7-9019-6EB5619F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E05E3-9DA1-4646-A920-641CAB3EB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A6A73-59EB-4195-A6A7-0F30F1E6E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73AEBD-2FE0-4F28-A76A-472E61A65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16E77D-C930-4F89-B33D-967F17A6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134F3-C897-4A56-8C3C-10B6434A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3808-CDFE-473B-8007-7FF56B74BD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7029-6AB8-42A0-B3F6-80BD2B3D47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FE17-ECE6-4AA5-BDB5-711BB7D1DC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0E4B-B4AD-4A87-B799-4638692F22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3962-625D-439D-B54D-9541BD36FC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235A-4300-4F62-9762-A8CF1C3FD2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0E15-A102-418C-985A-C1A266D6DF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A467-7039-4D7A-A771-435EA799D1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56D2-4AA8-4318-9E83-E1F96C11F6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ED28-CEAE-47C0-97A1-8E551A23F6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2107-00A0-466B-A595-52042841A3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0B50-C316-4227-B7F0-91E7BE115B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A79F-6A61-4A8A-9355-8F21D9E4FC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CDDE-067C-47C9-8987-B182A34890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16E5-9248-4501-95DB-49830E39A0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173B-5436-45D0-8C62-6F9E8EE7A4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9A1E-9526-44CB-93B3-6C82086162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CEC6-59CB-4F71-9E1E-AC90B5BBE6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5D6E-C53C-4994-B958-7EDF5E8375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ACFD-C0AA-48FA-8B24-4C7445C22D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3563-D75E-4BF5-B74D-E295630FCB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C7E9-716B-47FF-B134-F83A1A590C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3BE9-4C80-454C-830B-CA387C26A8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A212-4A54-4418-9347-37B0311904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FE73-AF8C-430E-A88A-6432C00673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6423-FB29-4693-8AFC-1D067C2A28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59B6-8C09-4782-A2F9-CA5EA2B19D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ADC1-37E6-418C-9261-F3F4AE623B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0A33-0430-41FB-BF4C-B9E0293B04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5687-4D8A-4ABA-969F-E3046AA277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C754-9121-43A9-9918-CBC3206715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7288-1B40-4028-ACA8-1BA2268FC0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DF44-D6C6-4F8F-9D03-F792FBD0A0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7D75-72DD-4E88-9039-72778A7EA9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AFA4-A9F3-47EC-A6C3-CDC2475FA9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1F8B-4F13-44B9-B88F-13580B2FB3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AAA8-B580-4421-94C2-C7DA206C39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69F2-BF32-455E-AF5E-F89835D8E4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754D-4D5A-4B4F-B729-838426A495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BDC1-8BEC-4C79-949A-871104FE2D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647720" y="3009960"/>
            <a:ext cx="58485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图片 69633" descr=""/>
          <p:cNvPicPr/>
          <p:nvPr/>
        </p:nvPicPr>
        <p:blipFill>
          <a:blip r:embed="rId1"/>
          <a:stretch/>
        </p:blipFill>
        <p:spPr>
          <a:xfrm>
            <a:off x="214200" y="776160"/>
            <a:ext cx="8715600" cy="530568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2"/>
          <a:stretch/>
        </p:blipFill>
        <p:spPr>
          <a:xfrm>
            <a:off x="1332000" y="5516640"/>
            <a:ext cx="40320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68609" descr=""/>
          <p:cNvPicPr/>
          <p:nvPr/>
        </p:nvPicPr>
        <p:blipFill>
          <a:blip r:embed="rId1"/>
          <a:stretch/>
        </p:blipFill>
        <p:spPr>
          <a:xfrm>
            <a:off x="628560" y="1143000"/>
            <a:ext cx="7886880" cy="457200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2"/>
          <a:stretch/>
        </p:blipFill>
        <p:spPr>
          <a:xfrm>
            <a:off x="1042920" y="2449440"/>
            <a:ext cx="6265800" cy="4939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3"/>
          <a:stretch/>
        </p:blipFill>
        <p:spPr>
          <a:xfrm>
            <a:off x="1116000" y="3141720"/>
            <a:ext cx="6265800" cy="49356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4"/>
          <a:stretch/>
        </p:blipFill>
        <p:spPr>
          <a:xfrm>
            <a:off x="1114560" y="3816360"/>
            <a:ext cx="6265800" cy="4935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5"/>
          <a:stretch/>
        </p:blipFill>
        <p:spPr>
          <a:xfrm>
            <a:off x="1187280" y="4508640"/>
            <a:ext cx="6266160" cy="4935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6"/>
          <a:stretch/>
        </p:blipFill>
        <p:spPr>
          <a:xfrm>
            <a:off x="971640" y="5099040"/>
            <a:ext cx="62658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99880" y="1157400"/>
            <a:ext cx="8544240" cy="45432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2484360" y="4048200"/>
            <a:ext cx="1224000" cy="4935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5003640" y="4019400"/>
            <a:ext cx="1224000" cy="4939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6300720" y="4724280"/>
            <a:ext cx="12240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59410" descr=""/>
          <p:cNvPicPr/>
          <p:nvPr/>
        </p:nvPicPr>
        <p:blipFill>
          <a:blip r:embed="rId1"/>
          <a:stretch/>
        </p:blipFill>
        <p:spPr>
          <a:xfrm>
            <a:off x="514440" y="1157400"/>
            <a:ext cx="8115120" cy="45432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2"/>
          <a:stretch/>
        </p:blipFill>
        <p:spPr>
          <a:xfrm>
            <a:off x="7812000" y="1844640"/>
            <a:ext cx="863640" cy="4939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3"/>
          <a:stretch/>
        </p:blipFill>
        <p:spPr>
          <a:xfrm>
            <a:off x="1116000" y="2492280"/>
            <a:ext cx="863640" cy="4939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4"/>
          <a:stretch/>
        </p:blipFill>
        <p:spPr>
          <a:xfrm>
            <a:off x="3087720" y="3875040"/>
            <a:ext cx="863640" cy="4939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5"/>
          <a:stretch/>
        </p:blipFill>
        <p:spPr>
          <a:xfrm>
            <a:off x="1692360" y="4508640"/>
            <a:ext cx="863640" cy="4935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6"/>
          <a:stretch/>
        </p:blipFill>
        <p:spPr>
          <a:xfrm>
            <a:off x="7308720" y="4508640"/>
            <a:ext cx="86364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8373" descr=""/>
          <p:cNvPicPr/>
          <p:nvPr/>
        </p:nvPicPr>
        <p:blipFill>
          <a:blip r:embed="rId1"/>
          <a:stretch/>
        </p:blipFill>
        <p:spPr>
          <a:xfrm>
            <a:off x="285840" y="770040"/>
            <a:ext cx="8572320" cy="59720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7667640" y="162864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7596360" y="292428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4"/>
          <a:stretch/>
        </p:blipFill>
        <p:spPr>
          <a:xfrm>
            <a:off x="7596360" y="364500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5"/>
          <a:stretch/>
        </p:blipFill>
        <p:spPr>
          <a:xfrm>
            <a:off x="7596360" y="4941720"/>
            <a:ext cx="576000" cy="4939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6"/>
          <a:stretch/>
        </p:blipFill>
        <p:spPr>
          <a:xfrm>
            <a:off x="7653240" y="6208560"/>
            <a:ext cx="576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7352" descr=""/>
          <p:cNvPicPr/>
          <p:nvPr/>
        </p:nvPicPr>
        <p:blipFill>
          <a:blip r:embed="rId1"/>
          <a:stretch/>
        </p:blipFill>
        <p:spPr>
          <a:xfrm>
            <a:off x="257040" y="743040"/>
            <a:ext cx="8629920" cy="53719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2916360" y="2219400"/>
            <a:ext cx="4895640" cy="4935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3203640" y="2881440"/>
            <a:ext cx="5329080" cy="4935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4"/>
          <a:stretch/>
        </p:blipFill>
        <p:spPr>
          <a:xfrm>
            <a:off x="3276720" y="3543480"/>
            <a:ext cx="5543280" cy="4935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5"/>
          <a:stretch/>
        </p:blipFill>
        <p:spPr>
          <a:xfrm>
            <a:off x="826920" y="4192560"/>
            <a:ext cx="5543640" cy="4939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6"/>
          <a:stretch/>
        </p:blipFill>
        <p:spPr>
          <a:xfrm>
            <a:off x="3786120" y="4854600"/>
            <a:ext cx="5329440" cy="4935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7"/>
          <a:stretch/>
        </p:blipFill>
        <p:spPr>
          <a:xfrm>
            <a:off x="684360" y="5516640"/>
            <a:ext cx="55432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6324" descr=""/>
          <p:cNvPicPr/>
          <p:nvPr/>
        </p:nvPicPr>
        <p:blipFill>
          <a:blip r:embed="rId1"/>
          <a:stretch/>
        </p:blipFill>
        <p:spPr>
          <a:xfrm>
            <a:off x="290520" y="1714680"/>
            <a:ext cx="8562960" cy="342900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6156360" y="3170160"/>
            <a:ext cx="936720" cy="4939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1763640" y="4479840"/>
            <a:ext cx="16560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55300" descr=""/>
          <p:cNvPicPr/>
          <p:nvPr/>
        </p:nvPicPr>
        <p:blipFill>
          <a:blip r:embed="rId1"/>
          <a:stretch/>
        </p:blipFill>
        <p:spPr>
          <a:xfrm>
            <a:off x="642960" y="2128680"/>
            <a:ext cx="7858080" cy="26006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2"/>
          <a:stretch/>
        </p:blipFill>
        <p:spPr>
          <a:xfrm>
            <a:off x="1476360" y="2765520"/>
            <a:ext cx="1511280" cy="49356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3"/>
          <a:stretch/>
        </p:blipFill>
        <p:spPr>
          <a:xfrm>
            <a:off x="3348000" y="4105440"/>
            <a:ext cx="2376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54276" descr=""/>
          <p:cNvPicPr/>
          <p:nvPr/>
        </p:nvPicPr>
        <p:blipFill>
          <a:blip r:embed="rId1"/>
          <a:stretch/>
        </p:blipFill>
        <p:spPr>
          <a:xfrm>
            <a:off x="266760" y="611280"/>
            <a:ext cx="8610480" cy="60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图片 52231" descr=""/>
          <p:cNvPicPr/>
          <p:nvPr/>
        </p:nvPicPr>
        <p:blipFill>
          <a:blip r:embed="rId1"/>
          <a:stretch/>
        </p:blipFill>
        <p:spPr>
          <a:xfrm>
            <a:off x="633240" y="2162160"/>
            <a:ext cx="7877520" cy="25336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2"/>
          <a:stretch/>
        </p:blipFill>
        <p:spPr>
          <a:xfrm>
            <a:off x="3203640" y="2824200"/>
            <a:ext cx="1368360" cy="4935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3"/>
          <a:stretch/>
        </p:blipFill>
        <p:spPr>
          <a:xfrm>
            <a:off x="5796000" y="3500280"/>
            <a:ext cx="1368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19:44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